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3D6A-0ED7-416D-99B5-705BEC5A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E9F1-8225-4544-80F3-99175032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FBE2-6922-47DC-9067-01C67A29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F953-316C-40E8-9618-C7847DAE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25FE-F736-48B1-BE3F-C4D0CE0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EA9-1415-438A-BF08-9945558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2C2A-116C-4D14-9461-D565B9C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046E-5643-4481-9911-40D5F21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A0D1-285C-4172-A8F7-2E6425FE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9B7-4884-4736-92B2-64D91D8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1EF-3365-4AEC-9E74-BE4E049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8B90-ED4B-4F26-B23C-F13D4C8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7B9-1886-4FD7-939D-1C775C2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504-AA32-4A64-967B-206B414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002-14CF-4174-B0F0-0C29CF5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97D3-0E5C-4BA3-A769-A0B1699F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7F6-694F-4D45-AA8E-EBF7A29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A99C-E577-492B-8B4A-1169EE96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9A17-A2A8-43A3-B23B-C6EA354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99F3-65F5-4F67-884A-5B5DD86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34D6-9159-4373-AC0A-292D0A3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D0C0-4ADA-401B-86E1-4E3F56A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CF39-E732-4871-9750-ECB429B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4A1B-69FC-4E10-80AE-A66EF57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2078-D764-4791-97F6-9732F06F0B5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CDF-D80F-4C3C-87B2-0099C461128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578520"/>
            <a:ext cx="111315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8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 желая богатство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ито слава, ни чест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 в небесното царство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дял да имам и аз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уй едно сам желая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век да съм със Христа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егов аз да остан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до последния час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922040"/>
            <a:ext cx="8964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О, блаженство в Христ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лавна е радост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книгата на живо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записан да съм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533240"/>
            <a:ext cx="896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Колко тежко ми беше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роб кат' бях на греха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но олекна ми вече –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повярвах в Христ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ъв кръвта на тоз Агнец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изкъпах се цял;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моят грях, кат' кръв багрен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като сняг стана бял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922040"/>
            <a:ext cx="8964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О, блаженство в Христ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лавна е радост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книгата на живо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записан да съм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1608840"/>
            <a:ext cx="896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. За Сиона небесен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град на вечен покой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за мира му чудесен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жадувам, Бог мой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Там вси Теб ще се кланят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ще ликуват безкрай,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ечно Тебе ще славят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ъв небесния рай!</a:t>
            </a:r>
            <a:r>
              <a:rPr b="0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1922040"/>
            <a:ext cx="8964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О, блаженство в Христ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Славна е радост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в книгата на живот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  <a:ea typeface="Arial"/>
              </a:rPr>
              <a:t>аз записан да съм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4-28T16:04:54Z</dcterms:modified>
  <cp:revision>56</cp:revision>
  <dc:subject/>
  <dc:title>Slide 1</dc:title>
</cp:coreProperties>
</file>